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7"/>
          <p:cNvSpPr/>
          <p:nvPr/>
        </p:nvSpPr>
        <p:spPr>
          <a:xfrm>
            <a:off x="1763640" y="260280"/>
            <a:ext cx="5181840" cy="55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电 磁 学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Text Box 32"/>
          <p:cNvSpPr/>
          <p:nvPr/>
        </p:nvSpPr>
        <p:spPr>
          <a:xfrm>
            <a:off x="826920" y="1341360"/>
            <a:ext cx="7925040" cy="31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电能是应用最广泛的能源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电磁波的传播实现了信息传递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电磁学与工程技术各个领域有十分密切的联系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电磁学的研究在理论方面也很重要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668040" y="4952880"/>
            <a:ext cx="2228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0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年爱因斯坦建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狭义相对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668040" y="3505320"/>
            <a:ext cx="2228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6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年麦克斯韦提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电磁场理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208040" y="990720"/>
            <a:ext cx="1131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2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081680" y="1981080"/>
            <a:ext cx="1643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奥斯特发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电流对磁针的作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Line 6"/>
          <p:cNvSpPr/>
          <p:nvPr/>
        </p:nvSpPr>
        <p:spPr>
          <a:xfrm>
            <a:off x="4751280" y="14479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7512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37440" y="990720"/>
            <a:ext cx="1579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公元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9"/>
          <p:cNvSpPr/>
          <p:nvPr/>
        </p:nvSpPr>
        <p:spPr>
          <a:xfrm>
            <a:off x="1719360" y="14828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7027200" y="990720"/>
            <a:ext cx="1131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3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7570800" y="1447920"/>
            <a:ext cx="0" cy="56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050960" y="2019240"/>
            <a:ext cx="109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法拉第发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电磁感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07880" y="2057400"/>
            <a:ext cx="2667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古希腊泰勒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一次记载电现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47512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1703520" y="2895480"/>
            <a:ext cx="1600200" cy="1066680"/>
            <a:chOff x="1703520" y="2895480"/>
            <a:chExt cx="1600200" cy="1066680"/>
          </a:xfrm>
        </p:grpSpPr>
        <p:sp>
          <p:nvSpPr>
            <p:cNvPr id="57" name="Line 16"/>
            <p:cNvSpPr/>
            <p:nvPr/>
          </p:nvSpPr>
          <p:spPr>
            <a:xfrm>
              <a:off x="1703520" y="28954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>
              <a:off x="1703520" y="39207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6275520" y="2819520"/>
            <a:ext cx="1371600" cy="1101600"/>
            <a:chOff x="6275520" y="2819520"/>
            <a:chExt cx="1371600" cy="1101600"/>
          </a:xfrm>
        </p:grpSpPr>
        <p:sp>
          <p:nvSpPr>
            <p:cNvPr id="60" name="Line 19"/>
            <p:cNvSpPr/>
            <p:nvPr/>
          </p:nvSpPr>
          <p:spPr>
            <a:xfrm>
              <a:off x="6275520" y="3921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Line 20"/>
            <p:cNvSpPr/>
            <p:nvPr/>
          </p:nvSpPr>
          <p:spPr>
            <a:xfrm flipV="1">
              <a:off x="7647120" y="2819520"/>
              <a:ext cx="0" cy="11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2" name="Rectangle 20"/>
          <p:cNvSpPr/>
          <p:nvPr/>
        </p:nvSpPr>
        <p:spPr>
          <a:xfrm>
            <a:off x="2362320" y="15228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磁学的研究历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0"/>
          <p:cNvSpPr/>
          <p:nvPr/>
        </p:nvSpPr>
        <p:spPr>
          <a:xfrm>
            <a:off x="2362320" y="15228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本部分主要内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852480" y="3200400"/>
            <a:ext cx="82123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9c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对象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弥散于空间的电磁场，重点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场的分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833400" y="1752480"/>
            <a:ext cx="6329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9c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磁作用是“场”的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近距作用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" name="Group 21"/>
          <p:cNvGrpSpPr/>
          <p:nvPr/>
        </p:nvGrpSpPr>
        <p:grpSpPr>
          <a:xfrm>
            <a:off x="838080" y="4302000"/>
            <a:ext cx="7620120" cy="1552680"/>
            <a:chOff x="838080" y="4302000"/>
            <a:chExt cx="7620120" cy="1552680"/>
          </a:xfrm>
        </p:grpSpPr>
        <p:sp>
          <p:nvSpPr>
            <p:cNvPr id="67" name="Text Box 10"/>
            <p:cNvSpPr/>
            <p:nvPr/>
          </p:nvSpPr>
          <p:spPr>
            <a:xfrm>
              <a:off x="6114960" y="5334120"/>
              <a:ext cx="23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（一般）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4656240" y="4302000"/>
              <a:ext cx="960480" cy="790560"/>
              <a:chOff x="4656240" y="4302000"/>
              <a:chExt cx="960480" cy="790560"/>
            </a:xfrm>
          </p:grpSpPr>
          <p:sp>
            <p:nvSpPr>
              <p:cNvPr id="69" name="Text Box 12"/>
              <p:cNvSpPr/>
              <p:nvPr/>
            </p:nvSpPr>
            <p:spPr>
              <a:xfrm>
                <a:off x="4656240" y="4302000"/>
                <a:ext cx="96048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Verdana"/>
                  </a:rPr>
                  <a:t>归纳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Verdana"/>
                  </a:rPr>
                  <a:t>假设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>
                <a:off x="4753080" y="5086440"/>
                <a:ext cx="863640" cy="6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" name="Rectangle 16"/>
            <p:cNvSpPr/>
            <p:nvPr/>
          </p:nvSpPr>
          <p:spPr>
            <a:xfrm>
              <a:off x="838080" y="4765680"/>
              <a:ext cx="41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c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方法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基本实验规律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6006600" y="47498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综合的普遍规律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2896560" y="52578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（特殊）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" name="Text Box 23"/>
          <p:cNvSpPr/>
          <p:nvPr/>
        </p:nvSpPr>
        <p:spPr>
          <a:xfrm>
            <a:off x="609480" y="914400"/>
            <a:ext cx="7620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87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处理电磁学问题的基本观点和方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3"/>
          <p:cNvSpPr/>
          <p:nvPr/>
        </p:nvSpPr>
        <p:spPr>
          <a:xfrm>
            <a:off x="457200" y="1143000"/>
            <a:ext cx="82296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电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对于观察者静止的电荷产生的电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稳恒电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随时间改变的电荷分布产生不随时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变的电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两个物理量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：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场强、电势；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一个实验规律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库仑定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两个定理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：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斯定理、环流定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5960" y="2143080"/>
            <a:ext cx="5857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-1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电荷的量子化      电荷守恒定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000080" y="21420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电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042920" y="2109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042920" y="27957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795760" y="20876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电荷，负电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716360" y="3573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单位：库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795760" y="277344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种相斥，异种相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34815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荷的多少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5005440" y="51674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00000" y="4437000"/>
            <a:ext cx="73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电本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体带电是由于得失电子所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性物体失去电子带正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到电子带负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68360" y="981000"/>
            <a:ext cx="8351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带电体所带的电称为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电荷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带电量的大小称为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电荷量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071720" y="21420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电荷的量子化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826920" y="105264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自然界中所观察到的电荷均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基本电荷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整数倍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3684600" y="3273480"/>
                <a:ext cx="2971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2195640" y="2133720"/>
                <a:ext cx="4572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ne</m:t>
                    </m:r>
                    <m:m>
                      <m:mr>
                        <m:e/>
                        <m:e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,3</m:t>
                          </m:r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1" name="Rectangle 7"/>
          <p:cNvSpPr/>
          <p:nvPr/>
        </p:nvSpPr>
        <p:spPr>
          <a:xfrm>
            <a:off x="1187280" y="4149720"/>
            <a:ext cx="706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是自然界中的一条基本规律，表明电荷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量子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255680" y="32734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基本电荷量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矩形 105479"/>
          <p:cNvSpPr/>
          <p:nvPr/>
        </p:nvSpPr>
        <p:spPr>
          <a:xfrm>
            <a:off x="762120" y="54230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盖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曼提出夸克模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对象 1"/>
              <p:cNvSpPr txBox="1"/>
              <p:nvPr/>
            </p:nvSpPr>
            <p:spPr>
              <a:xfrm>
                <a:off x="4648320" y="5191200"/>
                <a:ext cx="11300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对象 3"/>
              <p:cNvSpPr txBox="1"/>
              <p:nvPr/>
            </p:nvSpPr>
            <p:spPr>
              <a:xfrm>
                <a:off x="6181560" y="5191200"/>
                <a:ext cx="8733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70000" y="7840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电荷守恒定律</a:t>
            </a:r>
            <a:r>
              <a:rPr b="1" lang="zh-CN" sz="3200" spc="-1" strike="noStrike">
                <a:solidFill>
                  <a:srgbClr val="c3296b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c3296b"/>
                </a:solidFill>
                <a:latin typeface="宋体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447920" y="28954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自然界的基本守恒定律之一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文本框 105484"/>
          <p:cNvSpPr/>
          <p:nvPr/>
        </p:nvSpPr>
        <p:spPr>
          <a:xfrm>
            <a:off x="808200" y="374184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荷的相对论不变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文本框 105485"/>
          <p:cNvSpPr/>
          <p:nvPr/>
        </p:nvSpPr>
        <p:spPr>
          <a:xfrm>
            <a:off x="1170000" y="4336920"/>
            <a:ext cx="69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荷的电量与它的运动状态无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矩形 220162"/>
          <p:cNvSpPr/>
          <p:nvPr/>
        </p:nvSpPr>
        <p:spPr>
          <a:xfrm>
            <a:off x="1008000" y="4967280"/>
            <a:ext cx="72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不同惯性系中观测，同一带电粒子的电量相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971640" y="1413000"/>
            <a:ext cx="709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在一个孤立系统内发生的过程中，正负电荷的代数和保持不变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5:21:49Z</dcterms:created>
  <dc:creator>MC SYSTEM</dc:creator>
  <dc:description/>
  <dc:language>en-US</dc:language>
  <cp:lastModifiedBy>szu</cp:lastModifiedBy>
  <dcterms:modified xsi:type="dcterms:W3CDTF">2019-04-16T03:53:11Z</dcterms:modified>
  <cp:revision>29</cp:revision>
  <dc:subject/>
  <dc:title>5-1    电荷的量子化      电荷守恒定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</Properties>
</file>